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286-7F32-4BF4-86A7-A9B421C7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7F6-6977-447B-897B-473B1CD0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7CF-7795-459E-8C3A-B05D08D6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D09-157D-4CF7-BF06-CF5D1EAD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3E9A-26EB-4BE2-8769-9630DD01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E7BD-BC57-4559-99A0-8A9A19BB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C4C2-EC01-4107-99F9-30ECC4AE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ADB8-BA18-41B9-8DCF-DB1E7B27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1CBD-F1F9-420F-9322-764BC8C6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E72B-4A46-4D27-9679-7C0DA3E0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CDBA-E068-47A0-B7EE-05F5F35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24E-CB9F-4203-BF33-690B78EB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962E-97F2-40EE-94A8-178FE0C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3AC5-F33A-4E08-97C2-9288C639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A1AA-6C84-4B52-A244-6A2C228D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0FBF-AC34-46F9-A43B-7855D32F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E28B-97D6-43E1-95C5-E0CDD6D6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24F-B7ED-4C4C-B96B-80EDA831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BE1-EE83-425F-B38A-E95308BD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DE4-0223-46A5-BA6E-2BFC0E09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C2E-510B-4D92-B608-A7B10950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81D-1F89-495A-B93B-1F1C97BF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820-D6C0-4EA9-9AD1-880FDF15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826-3C13-4D27-87E4-ED466398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9802-E116-4660-ADAF-626CF162569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9D50-5704-434B-9A68-9DFAFA538A2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LENIN IS MY HOMBO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oadway"/>
              </a:rPr>
              <a:t>BY: KEITH DENN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39085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laybill"/>
              </a:rPr>
              <a:t>VLADIMIR LEN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LED THE RUSSIAN REVOLU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DEFEATED CZAR NICHOLAS I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CREATED THE UNION OF SOVIET SOCIALIST REPUBLICS, OR U.S.S.R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SPREAD COMMUNIS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Playbill"/>
              </a:rPr>
              <a:t>REGARDED AS A HERO IN RUSSIA TO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914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 Demi"/>
              </a:rPr>
              <a:t>RUSSIAN REVOLU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LED BY VLADIMIR LENIN AND HIS FOLLOW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AGAINST THE CZA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LENIN AND HIS FOLLOWERS WERE VICTORIOU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Berlin Sans FB Demi"/>
              </a:rPr>
              <a:t>EVENT WAS IN 191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RISE OF STAL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AFTER LENIN DIED, JOSEPH STALIN BECAME LEAD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HE WAS REGARED AS A GREAT GENER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THE RUSSIAN PEOPLE DIDN’T LIKE STALIN AS A LEADER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HE DIDN’T CARE FOR THE RUSSIAN PEOP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Castellar"/>
              </a:rPr>
              <a:t>stalin started the gulag, which were a series of government prison camp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ACE RACE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OVIETS AND U.S. HAD A RA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RACE WAS TO SEE WHO WOULD GET INTO SPACE FIRS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OVIETS WON THE RACE IN 195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UT THE U.S. WERE THE FIRST ON THE MO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"/>
          <p:cNvSpPr/>
          <p:nvPr/>
        </p:nvSpPr>
        <p:spPr>
          <a:xfrm>
            <a:off x="39085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0:05:50Z</dcterms:created>
  <dc:creator> </dc:creator>
  <dc:description/>
  <dc:language>en-US</dc:language>
  <cp:lastModifiedBy>QPS</cp:lastModifiedBy>
  <dcterms:modified xsi:type="dcterms:W3CDTF">2010-04-27T06:33:29Z</dcterms:modified>
  <cp:revision>5</cp:revision>
  <dc:subject/>
  <dc:title>LENIN IS MY HOMBOY</dc:title>
</cp:coreProperties>
</file>